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3.gif" ContentType="image/gif"/>
  <Override PartName="/ppt/media/image6.png" ContentType="image/png"/>
  <Override PartName="/ppt/media/image18.png" ContentType="image/png"/>
  <Override PartName="/ppt/media/image20.png" ContentType="image/png"/>
  <Override PartName="/ppt/media/image7.jpeg" ContentType="image/jpeg"/>
  <Override PartName="/ppt/media/image31.wmf" ContentType="image/x-wmf"/>
  <Override PartName="/ppt/media/image11.png" ContentType="image/png"/>
  <Override PartName="/ppt/media/image8.jpeg" ContentType="image/jpeg"/>
  <Override PartName="/ppt/media/image10.jpeg" ContentType="image/jpeg"/>
  <Override PartName="/ppt/media/image5.png" ContentType="image/png"/>
  <Override PartName="/ppt/media/image13.png" ContentType="image/png"/>
  <Override PartName="/ppt/media/image33.wmf" ContentType="image/x-wmf"/>
  <Override PartName="/ppt/media/image30.wmf" ContentType="image/x-wmf"/>
  <Override PartName="/ppt/media/image4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4.jpeg" ContentType="image/jpeg"/>
  <Override PartName="/ppt/media/image15.wmf" ContentType="image/x-wmf"/>
  <Override PartName="/ppt/media/image22.jpeg" ContentType="image/jpeg"/>
  <Override PartName="/ppt/media/image9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32.wmf" ContentType="image/x-wmf"/>
  <Override PartName="/ppt/media/image21.jpeg" ContentType="image/jpeg"/>
  <Override PartName="/ppt/media/image12.png" ContentType="image/png"/>
  <Override PartName="/ppt/media/image23.jpeg" ContentType="image/jpeg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E6B2-6823-4033-9972-74254DB8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438D-2CE8-4968-A1B1-C6CB2EB1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DBB6-966E-449A-861E-F8EDBCCD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568B-604A-404A-86DD-2609AFCF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C8B4-9446-4172-91DA-44AB8A0F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58FB-5594-4EA8-990B-FB6A4D43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5232-7B0B-4D12-B4FF-D76E4266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045E-DF00-4928-B930-CEC8A408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85A5-117D-4437-A75A-16F80A7E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DA44-4B9C-4790-8F46-CE26080C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8114-7276-44A0-BC7E-7DCFA839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9BA8-2EDB-4429-AD27-FC8FB131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BAEF-953F-4B95-9EC7-2C212B8ED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image" Target="../media/image32.wmf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upersizedmeals.com/food/article.php/20061215-Heart_Attack_Gril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63400" y="1030320"/>
            <a:ext cx="1801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66"/>
                </a:solidFill>
                <a:latin typeface="Arial"/>
              </a:rPr>
              <a:t>1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813040" y="2651040"/>
            <a:ext cx="58611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hysical Activity and Heal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2639880" y="638280"/>
            <a:ext cx="0" cy="55404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rcRect l="17499" t="-77320" r="9860" b="-64948"/>
          <a:stretch/>
        </p:blipFill>
        <p:spPr>
          <a:xfrm>
            <a:off x="447840" y="1035000"/>
            <a:ext cx="3120840" cy="1191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787320" y="67320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c80"/>
                </a:solidFill>
                <a:latin typeface="Arial"/>
              </a:rPr>
              <a:t>Meaning of Physical Fit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Arial"/>
              </a:rPr>
              <a:t>WHO, 19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e ability to perform muscular work satisfactor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Arial"/>
              </a:rPr>
              <a:t>CDC, 1985; Surgeon General,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 set of attributes that people have or achieve that relates to the ability to perform physical 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Arial"/>
              </a:rPr>
              <a:t>President’s Council on Physical Fitness and Sports, 19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e ability to carry out daily tasks with vigor and alertness, without undue fatigue and with ample energy to enjoy leisure-time pursuits and to meet unforeseen emerg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Fitness – Two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kill-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alth-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ar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ar end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ll-Related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gility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1c8c"/>
                </a:solidFill>
                <a:latin typeface="Arial"/>
              </a:rPr>
              <a:t>The ability to rapidly change the position of the entire body in space with speed and accuracy (e.g., dribbling a basketball back and forth between defend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balance</a:t>
            </a: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1c8c"/>
                </a:solidFill>
                <a:latin typeface="Arial"/>
              </a:rPr>
              <a:t>The maintenance of balance while stationary or moving (e.g., a gymnast performing movements on a balance bea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oordination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1c8c"/>
                </a:solidFill>
                <a:latin typeface="Arial"/>
              </a:rPr>
              <a:t>The ability to use the senses, such as sight and hearing, together with body parts in performing  tasks smoothly and accurately (e.g., kicking a soccer ball into the go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ower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1c8c"/>
                </a:solidFill>
                <a:latin typeface="Arial"/>
              </a:rPr>
              <a:t>The rate at which one can perform difficult work (e.g., a football lineman pushing back a defend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reaction time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1c8c"/>
                </a:solidFill>
                <a:latin typeface="Arial"/>
              </a:rPr>
              <a:t>The time elapsed between stimulation and the beginning of the reaction to it (e.g., a sprinter reacting to the starting gu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peed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1c8c"/>
                </a:solidFill>
                <a:latin typeface="Arial"/>
              </a:rPr>
              <a:t>The ability to perform a movement within a short period of time (e.g., a fast time in the 40-yard dash for a football running bac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HEALTH-RELAT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COMPONENTS OF FIT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ardio-respiratory Endur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fers to the ability of the body to take in, deliver, and extract oxygen for physical work or to  perform prolonged,  large muscle dynamic exercise at moderate-to-high levels of intens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uscular Streng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maximum force that a muscle can exert in a single contraction or with a single maximum eff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uscular Endur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capacity to exert repetitive muscular force or the ability of the muscle to remain contracted or contract repeatedly for long periods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exi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fers to the range of motion in a specific joint or group of joints.  Flexibility is related to muscle leng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ody Compos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proportion of lean mass (muscle, bone, and water) and fat tissue 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MCSL01387_0000[1]"/>
          <p:cNvPicPr/>
          <p:nvPr/>
        </p:nvPicPr>
        <p:blipFill>
          <a:blip r:embed="rId2"/>
          <a:stretch/>
        </p:blipFill>
        <p:spPr>
          <a:xfrm>
            <a:off x="2286000" y="4648320"/>
            <a:ext cx="135900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~AUT0021"/>
          <p:cNvPicPr/>
          <p:nvPr/>
        </p:nvPicPr>
        <p:blipFill>
          <a:blip r:embed="rId1"/>
          <a:stretch/>
        </p:blipFill>
        <p:spPr>
          <a:xfrm>
            <a:off x="457200" y="485640"/>
            <a:ext cx="8229600" cy="6372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3733920" y="0"/>
            <a:ext cx="198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3733920"/>
          <a:ext cx="131436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733920"/>
                    <a:ext cx="13143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8191440" y="3276720"/>
          <a:ext cx="952560" cy="340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91440" y="3276720"/>
                    <a:ext cx="95256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Fitness 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ealth go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o have a positive physical health base with a lower risk of health problems; to complete daily tasks easily and effici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tness goal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ave the benefits of health in addition to having a higher level of physical functio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rformance goal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chieve desired levels of performance in selected sports, which requires higher levels of fitness and sk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662040" y="1376280"/>
            <a:ext cx="8024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Lower risks of developing health problems; healthy level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bullet"/>
          <p:cNvPicPr/>
          <p:nvPr/>
        </p:nvPicPr>
        <p:blipFill>
          <a:blip r:embed="rId2"/>
          <a:stretch/>
        </p:blipFill>
        <p:spPr>
          <a:xfrm>
            <a:off x="763560" y="22543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95560" y="2217600"/>
            <a:ext cx="738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olestero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rcRect l="0" t="7560" r="9860" b="1375"/>
          <a:stretch/>
        </p:blipFill>
        <p:spPr>
          <a:xfrm>
            <a:off x="482760" y="1009800"/>
            <a:ext cx="8243640" cy="950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625320" y="534960"/>
            <a:ext cx="80870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Health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bullet"/>
          <p:cNvPicPr/>
          <p:nvPr/>
        </p:nvPicPr>
        <p:blipFill>
          <a:blip r:embed="rId4"/>
          <a:stretch/>
        </p:blipFill>
        <p:spPr>
          <a:xfrm>
            <a:off x="763560" y="272556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9"/>
          <p:cNvSpPr/>
          <p:nvPr/>
        </p:nvSpPr>
        <p:spPr>
          <a:xfrm>
            <a:off x="1195560" y="2689200"/>
            <a:ext cx="738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od press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bullet"/>
          <p:cNvPicPr/>
          <p:nvPr/>
        </p:nvPicPr>
        <p:blipFill>
          <a:blip r:embed="rId5"/>
          <a:stretch/>
        </p:blipFill>
        <p:spPr>
          <a:xfrm>
            <a:off x="763560" y="32050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1195560" y="3168720"/>
            <a:ext cx="738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dy fa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2" descr="bullet"/>
          <p:cNvPicPr/>
          <p:nvPr/>
        </p:nvPicPr>
        <p:blipFill>
          <a:blip r:embed="rId6"/>
          <a:stretch/>
        </p:blipFill>
        <p:spPr>
          <a:xfrm>
            <a:off x="763560" y="36846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3"/>
          <p:cNvSpPr/>
          <p:nvPr/>
        </p:nvSpPr>
        <p:spPr>
          <a:xfrm>
            <a:off x="1195560" y="3648240"/>
            <a:ext cx="738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ucose toleran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bullet"/>
          <p:cNvPicPr/>
          <p:nvPr/>
        </p:nvPicPr>
        <p:blipFill>
          <a:blip r:embed="rId7"/>
          <a:stretch/>
        </p:blipFill>
        <p:spPr>
          <a:xfrm>
            <a:off x="763560" y="416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5"/>
          <p:cNvSpPr/>
          <p:nvPr/>
        </p:nvSpPr>
        <p:spPr>
          <a:xfrm>
            <a:off x="1195560" y="4130640"/>
            <a:ext cx="738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tance use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6" descr="bullet"/>
          <p:cNvPicPr/>
          <p:nvPr/>
        </p:nvPicPr>
        <p:blipFill>
          <a:blip r:embed="rId8"/>
          <a:stretch/>
        </p:blipFill>
        <p:spPr>
          <a:xfrm>
            <a:off x="763560" y="4643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7"/>
          <p:cNvSpPr/>
          <p:nvPr/>
        </p:nvSpPr>
        <p:spPr>
          <a:xfrm>
            <a:off x="1195560" y="4606920"/>
            <a:ext cx="738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7201080" y="6181560"/>
            <a:ext cx="163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ieving Health 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your parents careful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healthy lifestyle ha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moking, no drugs, eating wisel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ctive on a daily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mulate 30 minutes or more of moderate intensity activity on all or most days of the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662040" y="1376280"/>
            <a:ext cx="8024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aintain positive physical well-being, including healthy level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bullet"/>
          <p:cNvPicPr/>
          <p:nvPr/>
        </p:nvPicPr>
        <p:blipFill>
          <a:blip r:embed="rId2"/>
          <a:stretch/>
        </p:blipFill>
        <p:spPr>
          <a:xfrm>
            <a:off x="763560" y="22543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195560" y="2217600"/>
            <a:ext cx="738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tional capacit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3"/>
          <a:srcRect l="0" t="7560" r="9860" b="1375"/>
          <a:stretch/>
        </p:blipFill>
        <p:spPr>
          <a:xfrm>
            <a:off x="482760" y="1009800"/>
            <a:ext cx="8243640" cy="95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625320" y="534960"/>
            <a:ext cx="80870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Physical Fitness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bullet"/>
          <p:cNvPicPr/>
          <p:nvPr/>
        </p:nvPicPr>
        <p:blipFill>
          <a:blip r:embed="rId4"/>
          <a:stretch/>
        </p:blipFill>
        <p:spPr>
          <a:xfrm>
            <a:off x="763560" y="272556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>
            <a:off x="1195560" y="2689200"/>
            <a:ext cx="738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cular strength and endurance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bullet"/>
          <p:cNvPicPr/>
          <p:nvPr/>
        </p:nvPicPr>
        <p:blipFill>
          <a:blip r:embed="rId5"/>
          <a:stretch/>
        </p:blipFill>
        <p:spPr>
          <a:xfrm>
            <a:off x="763560" y="32050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1"/>
          <p:cNvSpPr/>
          <p:nvPr/>
        </p:nvSpPr>
        <p:spPr>
          <a:xfrm>
            <a:off x="1195560" y="3168720"/>
            <a:ext cx="738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ieving Fitness 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elements as for Health go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a balanced exercise program that targets all of the components of fitness in order to achieve a good or optimal level in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moderate to higher intensity exercise 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HEAL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l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s to a overall condition of a person’s body or mind and to the presence or absence of illness or inj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s based on factors beyond your control, such as genes, age, and family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l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s to optimal health and vi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determined by the decisions you make about the way you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wellness involves making conscious decisions to control one’s risk factors that contribute to illness and inj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S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human_powered_gym"/>
          <p:cNvPicPr/>
          <p:nvPr/>
        </p:nvPicPr>
        <p:blipFill>
          <a:blip r:embed="rId1"/>
          <a:stretch/>
        </p:blipFill>
        <p:spPr>
          <a:xfrm>
            <a:off x="0" y="1219320"/>
            <a:ext cx="4267080" cy="3047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c14842c4-f076-499f-9858-84c4cb72fc45"/>
          <p:cNvPicPr/>
          <p:nvPr/>
        </p:nvPicPr>
        <p:blipFill>
          <a:blip r:embed="rId2"/>
          <a:stretch/>
        </p:blipFill>
        <p:spPr>
          <a:xfrm>
            <a:off x="4419720" y="1143000"/>
            <a:ext cx="4381560" cy="3067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0,,5794799,00"/>
          <p:cNvPicPr/>
          <p:nvPr/>
        </p:nvPicPr>
        <p:blipFill>
          <a:blip r:embed="rId3"/>
          <a:stretch/>
        </p:blipFill>
        <p:spPr>
          <a:xfrm>
            <a:off x="2590920" y="5029200"/>
            <a:ext cx="4114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rcRect l="0" t="7560" r="9860" b="1375"/>
          <a:stretch/>
        </p:blipFill>
        <p:spPr>
          <a:xfrm>
            <a:off x="482760" y="941400"/>
            <a:ext cx="8243640" cy="9540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5"/>
          <p:cNvGrpSpPr/>
          <p:nvPr/>
        </p:nvGrpSpPr>
        <p:grpSpPr>
          <a:xfrm>
            <a:off x="739800" y="1333440"/>
            <a:ext cx="7873920" cy="2917800"/>
            <a:chOff x="739800" y="1333440"/>
            <a:chExt cx="7873920" cy="2917800"/>
          </a:xfrm>
        </p:grpSpPr>
        <p:sp>
          <p:nvSpPr>
            <p:cNvPr id="136" name="Rectangle 6"/>
            <p:cNvSpPr/>
            <p:nvPr/>
          </p:nvSpPr>
          <p:spPr>
            <a:xfrm>
              <a:off x="3330720" y="1333440"/>
              <a:ext cx="5283000" cy="29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Find ways to stay as active as possible in everyday tas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20 min aerobic exercise; 30 min recreational ac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Flexibility and strength trai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Sedentary activities, like TV or video gam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7"/>
            <p:cNvSpPr/>
            <p:nvPr/>
          </p:nvSpPr>
          <p:spPr>
            <a:xfrm>
              <a:off x="739800" y="1333440"/>
              <a:ext cx="2590920" cy="29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1c8c"/>
                  </a:solidFill>
                  <a:latin typeface="Arial"/>
                </a:rPr>
                <a:t>Every d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8"/>
            <p:cNvSpPr/>
            <p:nvPr/>
          </p:nvSpPr>
          <p:spPr>
            <a:xfrm>
              <a:off x="739800" y="1333440"/>
              <a:ext cx="7873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9"/>
            <p:cNvSpPr/>
            <p:nvPr/>
          </p:nvSpPr>
          <p:spPr>
            <a:xfrm>
              <a:off x="739800" y="4251240"/>
              <a:ext cx="7873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0"/>
            <p:cNvSpPr/>
            <p:nvPr/>
          </p:nvSpPr>
          <p:spPr>
            <a:xfrm>
              <a:off x="739800" y="1333440"/>
              <a:ext cx="0" cy="291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>
              <a:off x="3330720" y="1333440"/>
              <a:ext cx="0" cy="291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2"/>
            <p:cNvSpPr/>
            <p:nvPr/>
          </p:nvSpPr>
          <p:spPr>
            <a:xfrm>
              <a:off x="8613720" y="1333440"/>
              <a:ext cx="0" cy="291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3"/>
            <p:cNvSpPr/>
            <p:nvPr/>
          </p:nvSpPr>
          <p:spPr>
            <a:xfrm>
              <a:off x="745560" y="293688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1c8c"/>
                  </a:solidFill>
                  <a:latin typeface="Arial"/>
                </a:rPr>
                <a:t>2-3 times a we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"/>
            <p:cNvSpPr/>
            <p:nvPr/>
          </p:nvSpPr>
          <p:spPr>
            <a:xfrm>
              <a:off x="759240" y="3384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1c8c"/>
                  </a:solidFill>
                  <a:latin typeface="Arial"/>
                </a:rPr>
                <a:t>Try to cut dow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5"/>
            <p:cNvSpPr/>
            <p:nvPr/>
          </p:nvSpPr>
          <p:spPr>
            <a:xfrm>
              <a:off x="740880" y="212868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1c8c"/>
                  </a:solidFill>
                  <a:latin typeface="Arial"/>
                </a:rPr>
                <a:t>3-5 times a we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16"/>
          <p:cNvSpPr/>
          <p:nvPr/>
        </p:nvSpPr>
        <p:spPr>
          <a:xfrm>
            <a:off x="625320" y="534960"/>
            <a:ext cx="8264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Recommended Physical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1355760" y="111240"/>
            <a:ext cx="7002000" cy="7092360"/>
            <a:chOff x="1355760" y="111240"/>
            <a:chExt cx="7002000" cy="7092360"/>
          </a:xfrm>
        </p:grpSpPr>
        <p:sp>
          <p:nvSpPr>
            <p:cNvPr id="148" name="AutoShape 3"/>
            <p:cNvSpPr/>
            <p:nvPr/>
          </p:nvSpPr>
          <p:spPr>
            <a:xfrm>
              <a:off x="1355760" y="111240"/>
              <a:ext cx="7002000" cy="70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38916"/>
            <p:cNvSpPr/>
            <p:nvPr/>
          </p:nvSpPr>
          <p:spPr>
            <a:xfrm flipV="1">
              <a:off x="3987000" y="584280"/>
              <a:ext cx="1740600" cy="1534680"/>
            </a:xfrm>
            <a:prstGeom prst="pie">
              <a:avLst/>
            </a:pr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Lim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sedent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activities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it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atching</a:t>
              </a: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V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mputer 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38917"/>
            <p:cNvSpPr/>
            <p:nvPr/>
          </p:nvSpPr>
          <p:spPr>
            <a:xfrm flipV="1">
              <a:off x="3116520" y="2120040"/>
              <a:ext cx="3482280" cy="1537200"/>
            </a:xfrm>
            <a:prstGeom prst="pie">
              <a:avLst/>
            </a:pr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66"/>
                  </a:solidFill>
                  <a:latin typeface="Arial"/>
                </a:rPr>
                <a:t>2-3 DAYS EACH WE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trength/Flexibility Trai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ft Weights, Stretch, Yoga, Tai Ch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38918"/>
            <p:cNvSpPr/>
            <p:nvPr/>
          </p:nvSpPr>
          <p:spPr>
            <a:xfrm flipV="1">
              <a:off x="2246040" y="3656880"/>
              <a:ext cx="5222880" cy="1533960"/>
            </a:xfrm>
            <a:prstGeom prst="pie">
              <a:avLst/>
            </a:pr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66"/>
                  </a:solidFill>
                  <a:latin typeface="Arial"/>
                </a:rPr>
                <a:t>3-5 DAYS EACH WE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66"/>
                  </a:solidFill>
                  <a:latin typeface="Arial"/>
                </a:rPr>
                <a:t>20-60 minu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ardio-respiratory Endurance Exerci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alk, Jog, Swim, Dance, Bike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ike, Row, S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38919"/>
            <p:cNvSpPr/>
            <p:nvPr/>
          </p:nvSpPr>
          <p:spPr>
            <a:xfrm flipV="1">
              <a:off x="1375920" y="5190840"/>
              <a:ext cx="6963840" cy="1534680"/>
            </a:xfrm>
            <a:prstGeom prst="pie">
              <a:avLst/>
            </a:pr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66"/>
                  </a:solidFill>
                  <a:latin typeface="Arial"/>
                </a:rPr>
                <a:t>EVERYD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Engage in physical activity at least 30 minu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each day; 60-90 minutes per day for weight los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alk to the sto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k your car further away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e the stairs instead of the elevator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ow the lawn.  Walk the do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Picture 8" descr="MCBD08603_0000[1]"/>
          <p:cNvPicPr/>
          <p:nvPr/>
        </p:nvPicPr>
        <p:blipFill>
          <a:blip r:embed="rId1"/>
          <a:stretch/>
        </p:blipFill>
        <p:spPr>
          <a:xfrm>
            <a:off x="6934320" y="5154480"/>
            <a:ext cx="1795320" cy="1703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MCPE07463_0000[1]"/>
          <p:cNvPicPr/>
          <p:nvPr/>
        </p:nvPicPr>
        <p:blipFill>
          <a:blip r:embed="rId2"/>
          <a:stretch/>
        </p:blipFill>
        <p:spPr>
          <a:xfrm>
            <a:off x="1459080" y="4648320"/>
            <a:ext cx="1442880" cy="2008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MCBD07504_0000[1]"/>
          <p:cNvPicPr/>
          <p:nvPr/>
        </p:nvPicPr>
        <p:blipFill>
          <a:blip r:embed="rId3"/>
          <a:stretch/>
        </p:blipFill>
        <p:spPr>
          <a:xfrm>
            <a:off x="6643800" y="3246480"/>
            <a:ext cx="1663560" cy="169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MCj01493700000[1]"/>
          <p:cNvPicPr/>
          <p:nvPr/>
        </p:nvPicPr>
        <p:blipFill>
          <a:blip r:embed="rId4"/>
          <a:stretch/>
        </p:blipFill>
        <p:spPr>
          <a:xfrm>
            <a:off x="1371600" y="2133720"/>
            <a:ext cx="19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MCBD05774_0000[1]"/>
          <p:cNvPicPr/>
          <p:nvPr/>
        </p:nvPicPr>
        <p:blipFill>
          <a:blip r:embed="rId5"/>
          <a:stretch/>
        </p:blipFill>
        <p:spPr>
          <a:xfrm>
            <a:off x="6332400" y="1905120"/>
            <a:ext cx="1167120" cy="1371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MCj02124310000[1]"/>
          <p:cNvPicPr/>
          <p:nvPr/>
        </p:nvPicPr>
        <p:blipFill>
          <a:blip r:embed="rId6"/>
          <a:stretch/>
        </p:blipFill>
        <p:spPr>
          <a:xfrm>
            <a:off x="7543800" y="1600200"/>
            <a:ext cx="1235160" cy="1447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MCj02953910000[1]"/>
          <p:cNvPicPr/>
          <p:nvPr/>
        </p:nvPicPr>
        <p:blipFill>
          <a:blip r:embed="rId7"/>
          <a:stretch/>
        </p:blipFill>
        <p:spPr>
          <a:xfrm>
            <a:off x="990720" y="3505320"/>
            <a:ext cx="1904760" cy="1191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j0195384"/>
          <p:cNvPicPr/>
          <p:nvPr/>
        </p:nvPicPr>
        <p:blipFill>
          <a:blip r:embed="rId8"/>
          <a:stretch/>
        </p:blipFill>
        <p:spPr>
          <a:xfrm>
            <a:off x="1905120" y="609480"/>
            <a:ext cx="1211040" cy="1236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MCj01548700000[1]"/>
          <p:cNvPicPr/>
          <p:nvPr/>
        </p:nvPicPr>
        <p:blipFill>
          <a:blip r:embed="rId9"/>
          <a:stretch/>
        </p:blipFill>
        <p:spPr>
          <a:xfrm>
            <a:off x="6324480" y="533520"/>
            <a:ext cx="1838520" cy="1272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7"/>
          <p:cNvSpPr/>
          <p:nvPr/>
        </p:nvSpPr>
        <p:spPr>
          <a:xfrm>
            <a:off x="3431880" y="22860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hysical Activity Pyram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662040" y="1376280"/>
            <a:ext cx="8024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o complete daily tasks efficiently,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bullet"/>
          <p:cNvPicPr/>
          <p:nvPr/>
        </p:nvPicPr>
        <p:blipFill>
          <a:blip r:embed="rId2"/>
          <a:stretch/>
        </p:blipFill>
        <p:spPr>
          <a:xfrm>
            <a:off x="763560" y="18702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1195560" y="1833480"/>
            <a:ext cx="738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ive levels of physical f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3"/>
          <a:srcRect l="0" t="7560" r="9860" b="1375"/>
          <a:stretch/>
        </p:blipFill>
        <p:spPr>
          <a:xfrm>
            <a:off x="482760" y="1009800"/>
            <a:ext cx="8243640" cy="950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7"/>
          <p:cNvSpPr/>
          <p:nvPr/>
        </p:nvSpPr>
        <p:spPr>
          <a:xfrm>
            <a:off x="625320" y="534960"/>
            <a:ext cx="80870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Performance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bullet"/>
          <p:cNvPicPr/>
          <p:nvPr/>
        </p:nvPicPr>
        <p:blipFill>
          <a:blip r:embed="rId4"/>
          <a:stretch/>
        </p:blipFill>
        <p:spPr>
          <a:xfrm>
            <a:off x="763560" y="234144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9"/>
          <p:cNvSpPr/>
          <p:nvPr/>
        </p:nvSpPr>
        <p:spPr>
          <a:xfrm>
            <a:off x="1195560" y="2305080"/>
            <a:ext cx="738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omotor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0" descr="bullet"/>
          <p:cNvPicPr/>
          <p:nvPr/>
        </p:nvPicPr>
        <p:blipFill>
          <a:blip r:embed="rId5"/>
          <a:stretch/>
        </p:blipFill>
        <p:spPr>
          <a:xfrm>
            <a:off x="763560" y="37306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1"/>
          <p:cNvSpPr/>
          <p:nvPr/>
        </p:nvSpPr>
        <p:spPr>
          <a:xfrm>
            <a:off x="1195560" y="3693960"/>
            <a:ext cx="738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lying levels of fitne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2" descr="bullet"/>
          <p:cNvPicPr/>
          <p:nvPr/>
        </p:nvPicPr>
        <p:blipFill>
          <a:blip r:embed="rId6"/>
          <a:stretch/>
        </p:blipFill>
        <p:spPr>
          <a:xfrm>
            <a:off x="763560" y="42069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3"/>
          <p:cNvSpPr/>
          <p:nvPr/>
        </p:nvSpPr>
        <p:spPr>
          <a:xfrm>
            <a:off x="1195560" y="4170240"/>
            <a:ext cx="7389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ic movements and skills related to sport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662040" y="2824200"/>
            <a:ext cx="7999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o achieve desired levels in selected sports by impr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5" descr="bullet"/>
          <p:cNvPicPr/>
          <p:nvPr/>
        </p:nvPicPr>
        <p:blipFill>
          <a:blip r:embed="rId7"/>
          <a:stretch/>
        </p:blipFill>
        <p:spPr>
          <a:xfrm>
            <a:off x="758880" y="505764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6"/>
          <p:cNvSpPr/>
          <p:nvPr/>
        </p:nvSpPr>
        <p:spPr>
          <a:xfrm>
            <a:off x="1190520" y="5021280"/>
            <a:ext cx="7390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ntal read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ieving Performance 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elements as for Health go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elements as for Fitness go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ndards to achieve in the fitness components are usually higher, requiring higher intensity exer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and developing the specific skill-related components of fitness that are needed by your s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equate practice, avoidance of over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of Fit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restricted than lab setting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est large numbers of people at on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f precision and accuracy is often offset by gains in practica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al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more 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 sophisticated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highly trained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actical for testing of large groups or numbers of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of Fit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ther the test should be laboratory (clinical) or field-based depends on how the test results are to be us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f the intent is to measure the aerobic capacity of a world-class athlete in order to develop an Olympic training program, the inclination may be to opt for the laboratory test.  On the other hand, if the purpose is to provide a class of third grade children with information about their level of CR fitness, it is more practical and every bit as useful to administer a field-based test that provides an estimate their aerobic capa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ing test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-Referenc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referred to as a test of relative achievemen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is to place subject along a continuum ranging from the lowest to the highest possible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the normal probability curve that represents a theoretical distribution of data based on a mathematical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on-Referenc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s measurement of subjects’ performances as they compare with a predetermined standard, such as a score, number of tasks completed, etc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riterion reflects experiences with previous learners in a similar situa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appropriate measure to use for some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Tip of the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day to increase your physical activity.  Replace 30 minutes of inactivity with an activity that keeps the body mov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MCPE01812_0000[1]"/>
          <p:cNvPicPr/>
          <p:nvPr/>
        </p:nvPicPr>
        <p:blipFill>
          <a:blip r:embed="rId1"/>
          <a:stretch/>
        </p:blipFill>
        <p:spPr>
          <a:xfrm>
            <a:off x="2362320" y="3048120"/>
            <a:ext cx="44481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2"/>
          <p:cNvSpPr/>
          <p:nvPr/>
        </p:nvSpPr>
        <p:spPr>
          <a:xfrm>
            <a:off x="343080" y="3589200"/>
            <a:ext cx="8400960" cy="360"/>
          </a:xfrm>
          <a:prstGeom prst="pie">
            <a:avLst/>
          </a:prstGeom>
          <a:noFill/>
          <a:ln w="209520">
            <a:solidFill>
              <a:srgbClr val="5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5440" y="2678040"/>
            <a:ext cx="1884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4200" spc="-1" strike="noStrike">
                <a:solidFill>
                  <a:srgbClr val="000050"/>
                </a:solidFill>
                <a:latin typeface="Arial"/>
              </a:rPr>
              <a:t>Healt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486560" y="2678040"/>
            <a:ext cx="1768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Arial"/>
              </a:rPr>
              <a:t>Deat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2457360" y="1886040"/>
            <a:ext cx="360" cy="3657600"/>
          </a:xfrm>
          <a:prstGeom prst="pie">
            <a:avLst/>
          </a:prstGeom>
          <a:noFill/>
          <a:ln w="900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6134040" y="1927080"/>
            <a:ext cx="360" cy="3657600"/>
          </a:xfrm>
          <a:prstGeom prst="pie">
            <a:avLst/>
          </a:prstGeom>
          <a:noFill/>
          <a:ln w="900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514600" y="1787400"/>
            <a:ext cx="3505320" cy="16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High-risk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moking, high-fat, low-fi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diet; inactivity; high stres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alcohol-drug abuse; reckless driving; unsafe 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229440" y="3962520"/>
            <a:ext cx="2741400" cy="19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Early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HD, cancer, strok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accidents, diabet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AIDS, obesity, HB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alcoholism, cirrhosi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osteopor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43080" y="4044960"/>
            <a:ext cx="188568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Physical, mental, spiritual well-being; positive lifestyle ha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69920" y="433440"/>
            <a:ext cx="8824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The Health Continuu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hourglass"/>
          <p:cNvPicPr/>
          <p:nvPr/>
        </p:nvPicPr>
        <p:blipFill>
          <a:blip r:embed="rId1"/>
          <a:stretch/>
        </p:blipFill>
        <p:spPr>
          <a:xfrm>
            <a:off x="1143000" y="1447920"/>
            <a:ext cx="1120680" cy="123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"/>
          <p:cNvPicPr/>
          <p:nvPr/>
        </p:nvPicPr>
        <p:blipFill>
          <a:blip r:embed="rId2"/>
          <a:stretch/>
        </p:blipFill>
        <p:spPr>
          <a:xfrm>
            <a:off x="2971800" y="3809880"/>
            <a:ext cx="2638440" cy="2676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"/>
          <p:cNvPicPr/>
          <p:nvPr/>
        </p:nvPicPr>
        <p:blipFill>
          <a:blip r:embed="rId3"/>
          <a:stretch/>
        </p:blipFill>
        <p:spPr>
          <a:xfrm>
            <a:off x="6553080" y="1371600"/>
            <a:ext cx="1847880" cy="128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nection between physical activity and health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sedent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festyle has a consistent link to many chronic health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iovascular disease, hypertension, stroke, diabetes, low back probl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festyle has many benefits, not just improved health and lower risk for dis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and mental health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“quality”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ult of inactivity and over-consum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overweight24"/>
          <p:cNvPicPr/>
          <p:nvPr/>
        </p:nvPicPr>
        <p:blipFill>
          <a:blip r:embed="rId2"/>
          <a:stretch/>
        </p:blipFill>
        <p:spPr>
          <a:xfrm>
            <a:off x="380880" y="1371600"/>
            <a:ext cx="5105520" cy="472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_41804464_french_woman_203x300"/>
          <p:cNvPicPr/>
          <p:nvPr/>
        </p:nvPicPr>
        <p:blipFill>
          <a:blip r:embed="rId3"/>
          <a:stretch/>
        </p:blipFill>
        <p:spPr>
          <a:xfrm>
            <a:off x="5638680" y="1371600"/>
            <a:ext cx="3200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y in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Only in America"/>
          <p:cNvPicPr/>
          <p:nvPr/>
        </p:nvPicPr>
        <p:blipFill>
          <a:blip r:embed="rId1"/>
          <a:stretch/>
        </p:blipFill>
        <p:spPr>
          <a:xfrm>
            <a:off x="304920" y="1066680"/>
            <a:ext cx="8839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Heart Attack Gril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, Ariz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5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druple Bi-pass Bu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at over 8,000 calories and that is before the “Flatliner Fri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0061215-Heart_Attack_Grill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625320" y="534960"/>
            <a:ext cx="80996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hysical Fitness Decreases Risk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of CH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1025640" y="1590840"/>
            <a:ext cx="7056360" cy="48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7c80"/>
                </a:solidFill>
                <a:latin typeface="Arial"/>
              </a:rPr>
              <a:t>Basic Defini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609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c1c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1c8c"/>
                </a:solidFill>
                <a:latin typeface="Arial"/>
              </a:rPr>
              <a:t>Physical activity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c1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1c8c"/>
                </a:solidFill>
                <a:latin typeface="Arial"/>
              </a:rPr>
              <a:t>Any bodily movement produced by skeletal muscles, which results in energy expendi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c1c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1c8c"/>
                </a:solidFill>
                <a:latin typeface="Arial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c1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1c8c"/>
                </a:solidFill>
                <a:latin typeface="Arial"/>
              </a:rPr>
              <a:t>Physical activity that is planned, structured, repetitive, and purposive, in the sense that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mprovement or maintenance of physical fitness is an obj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324480" y="2133720"/>
            <a:ext cx="24670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7:34:50Z</dcterms:created>
  <dc:creator>Karen K. Dennis</dc:creator>
  <dc:description/>
  <dc:language>en-US</dc:language>
  <cp:lastModifiedBy>Betty Henson</cp:lastModifiedBy>
  <dcterms:modified xsi:type="dcterms:W3CDTF">2011-05-16T18:13:04Z</dcterms:modified>
  <cp:revision>10</cp:revision>
  <dc:subject/>
  <dc:title>Slide 1</dc:title>
</cp:coreProperties>
</file>